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C24-3A0D-4B6A-B2C5-9FC0F04F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7C8-CF35-46D1-B68C-138CF26B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709-868F-4CFF-A49F-34F0D7D6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645-0F27-4183-9349-031721D6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7EB-A761-4277-A5B7-5A7B486A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CA5-0E87-4010-92FC-DA91B851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A67-A091-4ADB-A6EA-69E2F548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244-8FF6-4B52-99FD-1B6E9127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A94-3407-4266-85AA-49FA0CD7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E1A-CF80-4A5E-8237-AD84688E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DC5-1FEE-4E7D-989E-F61A8A5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CC4-B17B-4EF3-8853-31245934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4ADF-0615-47C1-80C9-4E85E4BA8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Slope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Slope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need a point! (x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need a slope!    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is point slope form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 – 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m(x – x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#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 an equation and 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oint (3,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slope m=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write the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– 2 = ½ 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57800" y="3390840"/>
            <a:ext cx="3619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an equation and grap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 (-2,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slope m = 4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write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762120" y="3276720"/>
                <a:ext cx="1930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33520" y="4267080"/>
                <a:ext cx="24415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3124080"/>
            <a:ext cx="4000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an equation and grap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 (-4,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slope    m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write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72000" y="2057400"/>
                <a:ext cx="38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838080" y="3657600"/>
                <a:ext cx="3281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4920" y="4724280"/>
                <a:ext cx="46479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3467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an equation and grap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oint (2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slope m =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write the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– 2 = – 3( x –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29200" y="3238560"/>
            <a:ext cx="39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two points (1,6) and (-3,-2) write an equation in point slop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equation, use the first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– 6 = 2(x –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wo points (4,-1) and (-4,-3) write an equation in point slope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1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, use the first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+ 1 = ¼(x –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0:27:04Z</dcterms:created>
  <dc:creator>Troy Clarke</dc:creator>
  <dc:description/>
  <dc:language>en-US</dc:language>
  <cp:lastModifiedBy>Preferred Customer</cp:lastModifiedBy>
  <dcterms:modified xsi:type="dcterms:W3CDTF">2007-12-12T18:57:37Z</dcterms:modified>
  <cp:revision>6</cp:revision>
  <dc:subject/>
  <dc:title>Point Slope Form</dc:title>
</cp:coreProperties>
</file>